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3EE5-C2BD-4BDF-A978-35A5B683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FAC8-5EB4-4C5D-B9D3-73A5CFC9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22E2-84FB-4159-8103-CA43FD632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6C82-304A-4326-8A05-2B0ACDC9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3861-A757-4B46-919E-DCF8C8A5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052F-C2E6-424F-B12B-6D3B76DF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756C-8F31-461A-9412-E1C9B1F6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C9A2-AC97-49F5-B461-E75339DF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060B-7DEC-45FB-9B97-7B53868D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064E-59EA-4D1E-B2EE-265F7F38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D873-C222-4891-B837-BA3B7E0A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0E80-2FFC-4BF4-AFB0-A621FA60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0EDD-45A8-4337-A077-1850089CC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785880" y="630360"/>
            <a:ext cx="7543800" cy="5562360"/>
          </a:xfrm>
          <a:prstGeom prst="rect">
            <a:avLst/>
          </a:prstGeom>
          <a:solidFill>
            <a:srgbClr val="0066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57160" y="719280"/>
            <a:ext cx="7400880" cy="538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954000" y="804960"/>
            <a:ext cx="7209000" cy="521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2652840" y="85716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ertificate of Bap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2652840" y="130824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~  This is to certify  ~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2309760" y="184932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That 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1298520" y="2219400"/>
            <a:ext cx="6518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Was Baptized in the Name of the Father, and of the Son, and of the Holy Spir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with the intention of remitting Original Sin … by the person doing the bapti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1243080" y="289548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On the  _______  day of  _________________  in the  _______  year of Our L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1025640" y="5467320"/>
            <a:ext cx="7062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Book Antiqua"/>
              </a:rPr>
              <a:t>According to the Rite of the Catholic Church in pure and natural wa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8"/>
          <p:cNvSpPr/>
          <p:nvPr/>
        </p:nvSpPr>
        <p:spPr>
          <a:xfrm>
            <a:off x="2155680" y="3962520"/>
            <a:ext cx="480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At  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9"/>
          <p:cNvSpPr/>
          <p:nvPr/>
        </p:nvSpPr>
        <p:spPr>
          <a:xfrm>
            <a:off x="2200320" y="4429080"/>
            <a:ext cx="471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Baptized by  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2200320" y="4896000"/>
            <a:ext cx="471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Witnessed by  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2652840" y="34290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~   ~   ~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4T16:38:45Z</dcterms:created>
  <dc:creator>Mike Bizzaro</dc:creator>
  <dc:description/>
  <dc:language>en-US</dc:language>
  <cp:lastModifiedBy>Michael Bizzaro</cp:lastModifiedBy>
  <dcterms:modified xsi:type="dcterms:W3CDTF">2020-12-06T02:44:14Z</dcterms:modified>
  <cp:revision>11</cp:revision>
  <dc:subject/>
  <dc:title>Slide 1</dc:title>
</cp:coreProperties>
</file>